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042-273B-4CDF-87D5-8AE5D2508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n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ghett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334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60195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63381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334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63381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60195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63381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assific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axonomy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Fung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fungi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ult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obtain energy from dead, decaying matte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mold, mushrooms, yeas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Planta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plants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ssile/immob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ult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rose, daisy, palm tre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Animal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animals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ult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ob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humans, sponges, fish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49120"/>
            <a:ext cx="937260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uman classific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Humans are classified in the following way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Kingdom-Animali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hylum-Chordat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ass-Mammali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Order-Primat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amily-Homonida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Genus-Hom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pecies-Sapie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tch the common name and scientific na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Killer wha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ors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Lio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rocod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Boa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lphi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g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Grizzly be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Equus caball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Orcinus orc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Delphinus delphi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Panthera le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rocodylus milo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onstrictor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Ursus arct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Felis domes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anis familiar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nsw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mmon name /scientific na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ors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Killer wha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lphi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Lio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rocodil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Boa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Grizzly be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g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Equus caball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Orcinus orc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Delphinus delphi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Panthera le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rocodylus milo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onstrictor constricto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Ursus arct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Felis domestic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Verdana"/>
              </a:rPr>
              <a:t>Canis familiaru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y 3 Domain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917640"/>
          <a:ext cx="7696080" cy="5940360"/>
        </p:xfrm>
        <a:graphic>
          <a:graphicData uri="http://schemas.openxmlformats.org/drawingml/2006/table">
            <a:tbl>
              <a:tblPr/>
              <a:tblGrid>
                <a:gridCol w="2211120"/>
                <a:gridCol w="1592280"/>
                <a:gridCol w="2167200"/>
                <a:gridCol w="17254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Eukarya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Archaebacteria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Eubacteria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Nucleu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Membrane bound organelles ex. Mitochondria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Cell wall without peptidogylcan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Cell membranes with unbranched lipid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(some)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Many kinds of RNA polymeras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Introns (Junk DNA)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(some)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Methionine is start amino ac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NOT Killed or inhibited by antibiotic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Archaebacteria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archaebacteria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ro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ell wall presen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 &amp; 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un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-bacteria in sulfur hot springs, deep sea vents, animal intestines, salty lake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Eubacter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eubacteria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ro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ell wall presen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 &amp; 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unicellul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-bacteria in your mouth, in yogurt, E. coli, disease causer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Kingdom Protis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e protists are classified by having the following characteristics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ukaryot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uto &amp; heterotrophic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mostly unicellular, some colonia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ey are all eukaryotes that don’t fit in the other kingdom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example organisms: algae, ameoba, paramecium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25:32Z</dcterms:created>
  <dc:creator>Tricia</dc:creator>
  <dc:description/>
  <cp:keywords/>
  <dc:language>en-US</dc:language>
  <cp:lastModifiedBy>Tricia</cp:lastModifiedBy>
  <dcterms:modified xsi:type="dcterms:W3CDTF">2007-04-26T13:30:04Z</dcterms:modified>
  <cp:revision>1</cp:revision>
  <dc:subject/>
  <dc:title>Class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1033</vt:lpwstr>
  </property>
</Properties>
</file>